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733D-51B4-485C-9E63-B6D12B39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A95-E261-42F7-8C86-0DE0BC5C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18D-9A94-46EA-8EE8-54E1EDA5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954-F4C8-4DEE-BC35-51B36888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86AA-AC44-45ED-ABA3-49A1EE2A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606D-AA93-46C3-9165-9B763957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F08F-E010-4479-9E92-C26759A0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0409-5707-4074-AB3D-A792A0CD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1372-F0D9-4FF4-9D5F-6A9413D1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962C-81F0-43B9-9285-F1E6CC8A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4EA6-471D-46BC-980A-9D6D21C7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BC55-5D13-48A3-9F4A-A94CB91D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F107-2EE4-4453-AD14-A6B7B9AC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E505-E382-429F-9B1A-3C1A7510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D81E-8C31-469F-9DF6-C1110B14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6579-C216-44AB-AEE2-5FCBFCDA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8051-18AC-4CA0-92C1-A3D59353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7F7-BFE8-4C18-868C-6DED7E28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2DE-FBAD-4942-B067-93A2A5BB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8B1-B582-42B5-98A2-F5676819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3DE-5C48-4F04-90F0-6C47BCB9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6026-E3F8-4CBA-AB1C-3E6D8E70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CEC-A4AE-4231-A383-8C17D3EC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199-9B0D-4CD9-8858-AFF5CEB6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B70A-4603-4636-90E9-CE2490FEFC0F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8C28-94D6-4ECD-A8F2-8F061A4044D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6320" y="76320"/>
            <a:ext cx="3124080" cy="609480"/>
            <a:chOff x="76320" y="76320"/>
            <a:chExt cx="3124080" cy="609480"/>
          </a:xfrm>
        </p:grpSpPr>
        <p:graphicFrame>
          <p:nvGraphicFramePr>
            <p:cNvPr id="34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" name=""/>
            <p:cNvSpPr/>
            <p:nvPr/>
          </p:nvSpPr>
          <p:spPr>
            <a:xfrm>
              <a:off x="533520" y="152280"/>
              <a:ext cx="2666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A587-F68E-46B4-B7D1-9FBFE943AE20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ECB5-E378-4A81-9847-5BDD2324FAB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320" y="76320"/>
            <a:ext cx="2895480" cy="609480"/>
            <a:chOff x="76320" y="76320"/>
            <a:chExt cx="2895480" cy="609480"/>
          </a:xfrm>
        </p:grpSpPr>
        <p:graphicFrame>
          <p:nvGraphicFramePr>
            <p:cNvPr id="109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533520" y="152640"/>
              <a:ext cx="2438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chilecompras.cl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amitefacil.gob.cl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Gobierno Electrónic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yecto de Reforma y Modernización d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sterio Secretaría General de la Presid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52C0-584E-4861-B748-C3D1BC3D2EC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45D4681-5F45-4256-AB8D-4AEA8332FB28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Buen Gobier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iseño y simplificación de procesos apoyados por las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gramas continuos de enseñanza y entr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sponer de sistemas de información que apoyen funciones internas. Permitir, facilitar y promover comunicaciones mediante uso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servicios a otras reparticiones. Conexión y utilización de red del Ministerio d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roducir indicador de gestión de porcentaje de trámites brindados electrónica y presencial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cluir impacto en la organización producido por el desarrollo de los proyectos que usen NTICs. Enfasis en impacto en funcion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ción de estándares de la industria NTICs. Imagén común en Internet, uso progresivo de .gov.cl y .gob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gregación de demanda para conseguir eficiencia en recursos financieros. Contratación conjunta de desarrollo de proy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6E3-4637-4E3B-9EE7-8C177CA2A14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58ECF-7B31-4D6F-B85B-010FE866319E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sarrollo de la Democracia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tar medidas para facilitar a la ciudadanía información pertinente, la consideración de sus opiniones y sugerencias, e instancias de participación ciudadana y la transpa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ar páginas web informativas de fácil acceso y comprensivas, vinculando esta información a portales de búsqueda generales, tanto públicos como priv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retaría General de Gobierno velará por estándares de contenido de las páginas web de los diversos Servicios y Ministerios, asegurando el acceso a los ciudadanos a la información general y específica sobre la acción del Gobi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6A2-7CA3-430F-A9AF-8D311D0EDDB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91BD6-FB48-4112-ABCC-02C7CC9A9F2D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- Generales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guimiento y Coordinación del cumplimiento de las instrucciones en SEGPRES a cargo del P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neración de antecedentes de inversión y gasto anuales en NTICs, a cargo de la Dirección de Presupue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n que señale cómo se aplicará Instructivo en los Servicios, a cargo de cada Jefe de Servicio. Agosto próx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A8BF-AF40-47F9-92AD-E025F7644FB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899A1-1746-409F-99FA-FAA4F0A87821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Trámites en lín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Trám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Gobiernode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mpuesto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Adua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Tesore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o Civ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on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hileComp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RN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B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Vivi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Edu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Obras Públ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ción Vi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per Isap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pre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.Mov.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te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715000"/>
            <a:ext cx="792504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tranet del Estado ( Min. Interior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EF6-110C-4DE1-BEEE-032553F15688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7C808-FA5A-473D-86F8-96CCB3757C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mentos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ra el Gobierno Electrón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C827-F7EA-4F26-8310-51BCC0EF9D1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ACA08CD-FD64-42AA-B989-C92534DAD8CF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Legales y Administrativ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Firma Digital, presentado en Agosto 2000 y aprobado por unanimidad en la Cámara de Diput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Dirección de Compras Públicas, se firmó indicación sustitutiva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tivo Presidencial de Gobierno Electrónico, suscrito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81 – 1999 de la SEGPRES, que regula el uso de la firma digital en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1.312 – 1999, establece sistema de información compras y contrataciones públicas – </a:t>
            </a:r>
            <a:r>
              <a:rPr b="0" lang="es-CL" sz="20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www.chilecompras.c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.S. 54 –2001 que permite la suscripción de acuerdos mar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MG 2001, obligación de incorporación de parte los Servicios al Sistema de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9D0-B0C2-45DA-9113-43644625EF8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CF942-DCEC-4A95-9AF5-0142E9717A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Fomen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sionamiento de Infraestructura Tecnológica: se ha evaluado técnica y jurídicamente la factibilidad de concesionar Ventanillas Unicas, bajo el marco de Concesionamiento del Ministerio de Obras Públ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trocinio a eventos de empresas tecnológicas privadas orientados a mostrar soluciones a Instituciones Públicas – Oracle, elvoucher.com, ACT, empatia, Metrodigital, separende.com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A45-7FFB-48A8-8B6E-B84F5D2694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32E0E-5C94-4A94-87CC-862A357191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ortal del Trámit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es-ES" sz="2000" spc="-1" strike="noStrike" u="sng">
                <a:solidFill>
                  <a:srgbClr val="f98d43"/>
                </a:solidFill>
                <a:uFillTx/>
                <a:latin typeface="Trebuchet MS"/>
                <a:ea typeface="Times New Roman"/>
                <a:hlinkClick r:id="rId2"/>
              </a:rPr>
              <a:t>www.tramitefacil.gob.cl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,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nt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ene la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formación sobre trámites de los Servicios Públicos, con sistemas de búsqueda orientados al usuario. Se inicia con 675 trámites.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cluye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los formularios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igitalizados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ás utilizados en cada Servicio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. Además, considera c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nexión a las transacciones en línea que actualmente tienen los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Ventanilla Únic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u objetivo es realizar en una transacción una colección de trámites en forma electrónica (llamado “requerimiento”), que involucra a más de una repartición pública y puede involucrar a organismos privados, a fin de atender requerimientos de los ciudadanos. Se han identificado y estudiado más de 40 requerimientos y se decidirá prontamente con cuáles comenz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Infraestructura de Acces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han habilitado alrededor de 200 Infocentros -públicos y privados- a lo largo del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633-1514-4DDD-931E-10078F82AF5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D9D06-21E4-4AC9-85C7-8047CA8309E6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ograma de Formación de los Recursos Humanos para el Gobierno Electrónic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Fortalecimiento de las Unidades de Gestión Electrónic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Intranet del E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Uso de las TI en IntraEstad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de Información para la Gestión Financiera (SIGF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Nacional de Información Territori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ChileCompr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stión Intern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92A-472C-4BB5-980C-D213A401FA0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F4D52-F0DD-460F-BC13-3490E6017F38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es Gobiernode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áginas web de los Servicio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28600" y="578160"/>
            <a:ext cx="95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arrollo de la Democraci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718D-A207-4550-9131-B79F140EAA8E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979F1-6987-4612-BD69-7744F8824240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 Refor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Proyecto de Reforma y Modernización del Estado es parte del amplio proceso de cambios impulsado por el Presidente Lagos, que incluy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s 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l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ción de las Reformas Judicial y Edu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42C-4892-4C00-B4DB-10E6ED12DAB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C9482-739D-4769-831C-EE4B9BAAE7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bjetivo de la Reforma del Estado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El proyecto de Reforma y Modernización del Estado tiene como objetivo generar durante el mandato del Presidente Lagos, un Estado de servicio a los ciudadanos, debiendo contar para ello con una estructura flexible y con una gestión eficiente, participativa y transparen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ios orient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democrático y participativ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transparent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unitario descentralizad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solid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lexible para enfrentar requerimientos presentes y futur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uerte, eficiente y eficaz que asegure calidad de vida y desarroll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ustentab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normativo y subsidi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E140-F3A3-470A-9B46-3AAF5C6B35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55456-D419-4948-831F-4B0D8D600A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8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es del Proyecto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- Reformas Polític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- Rediseño Institucional: áre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Polít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inisterios Coordinadores, Interior, Justi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Económ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Triministerio, regulación, fomento productivo, empresas públicas, institucionalidad agrícola, ciencia y tecnología,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fraestructu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OPTT y Biministerio Vivienda y Urbanismo y Bienes 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Soci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Institucionalidad Salud, Educación, Asuntos Sociales, Mujer y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- Descentralizació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pectos institucionales y planes regionales de modern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- Modernización de la Gestión Pública y Gobiern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Nuevo Trato y Dirección Púb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lidad de servici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Programa de Trámites, Cartas de Derechos, OIRS, Prem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estión de los servici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Unidad de sistematización de experiencias del sector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obierno Electróni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Buen gobierno, atención a los usuarios y más democra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- Participación ciudadana y Transparencia en la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s institucionales para la participación y Defensor del Ciudad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a de transparencia y prob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5DA-B24C-4BB7-B60D-1B23C77A3BC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2EABE-9EA8-4329-93C1-13BD611107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OBIERNO ELECTRONICO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finición 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 de las Tecnologías de Información y Comunicaciones para mejorar los servicios e información ofrecidos a los ciudadanos, aumentar la eficiencia y la eficacia de la gestión pública e incrementar sustantivamente la transparencia del sector público y la transparencia ciudadan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867-7614-4502-BC29-6BD7899966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A6EAA-9F77-4940-ABC5-2A97E8B12B7A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SION ORIENTADO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tención en cualquier oficina de un Servicio autorizado a brindarla. Independencia jurisdiccional y resid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manda de servicios sobre la base de necesidades en lugar de conocimiento de la estructura del Estado: mirada ciudad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o se exigirá presentación de cédula de identidad y de antecedentes que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obren en poder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informarán al Estado sólo una vez que haya cambios relevantes de su situación de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iudadanos son libres para acceder y consultar información de actos público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sistemas de información del Estado deberán estar relacionados entre sí y orientados a atender al ciudad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tienen derecho a conocer y modificar la información que de ellos posee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D1FF-DD53-44EC-BE1E-4355105BD9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9C515-1B2E-4A95-92B1-81F50DCFFEC1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incipios Orientado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ransformad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cación sustantiva de los procedimientos ac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 alcance de to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quién, dónde y cuá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ácil de us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s y senci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yor Benef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ecto a forma pres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guridad, Privacidad y Regist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l del Sector priva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yados en el sector privados mediante procesos competi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oncentr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ción, mantención y actualización de las TI a cargo de los Servicios e interoperabilidad entre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Jurisdicción Electró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ción de los Servicios para que las transacciones puedan ser efectuadas desde cualquier punto del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volutiv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proceso: (1) Presencia; (2) Interacción; (3) Transacción y; (4) Trans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220-B230-4B72-BFB2-3AD0E0B601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9F434-969C-42DB-ACF8-841E226E8685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Ámbit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Atención al ciudada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uevas formas de relación Gobierno / ciudadano mediante el uso de TI, que permitan al Estado brindar sus servicios en forma más eficiente, eficaz y con independencia del lugar fís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unitario, descentralizado, solidario y flexibl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Buen Gobier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tablecimiento e introducción de nuevas formas y procesos internos en la Administración del Estado que permitan la integración de los sistemas de diferentes Servicios, compartir recursos y el mejoramiento de la gestión interna de los mism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flexible, transparente, unitario, descentral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Desarrollo de la Democraci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reación de mecanismos que, usando TI, permitan al ciudadano jugar un rol activo en el quehacer del país, permitiendo abrir nuevos espacios y formas de particip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más participativo, transparente y democrá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F80-F08D-4E68-B972-66D02A01C5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7A7CA-EE59-4C2A-B365-5638DDF0F949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o progresivo e interrelacionado de las 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mentar y promover acceso de los ciudad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tegración entr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ientación hacia Ventanillas Unicas, preferentemente privadas y con estándares de calidad defin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quisitos al desarrollar Ventanillas U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ción vía cédula de identidad o clave de acceso  basada en en e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torizaciones electrónicas basadas en el nivel de seguridad que aspira o está obligado el ciudad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0FB-F5E5-418D-B98C-3E0CCEA733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09EAF-278A-4E3C-91A0-A352382AA32A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4:53:01Z</dcterms:created>
  <dc:creator>Felipe Goya</dc:creator>
  <dc:description/>
  <dc:language>en-US</dc:language>
  <cp:lastModifiedBy>MRiera</cp:lastModifiedBy>
  <cp:lastPrinted>2001-07-16T20:54:41Z</cp:lastPrinted>
  <dcterms:modified xsi:type="dcterms:W3CDTF">2001-07-24T20:30:32Z</dcterms:modified>
  <cp:revision>158</cp:revision>
  <dc:subject/>
  <dc:title>Proyecto de Reforma y Modernización del Estado</dc:title>
</cp:coreProperties>
</file>